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wmf" ContentType="image/x-wmf"/>
  <Override PartName="/ppt/media/image10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70F-96C1-44D6-B7C9-631554AA1E11}" type="slidenum">
              <a:rPr b="0" lang="en-I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: Mercury , Venus, Mars and Earth are called inner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: These are Jupiter , Saturn, Uranus, 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Asteroids. They also keep moving around the Sun .This ring is also called Asteroids Be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–The Innermost 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–The Veil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flects about 1/3rd of sunlight it receives .The earth’s atmosphere scatters the light &amp; creates a blue effectn,so it is also called Blue Planet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–The Blue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 Planet but the only satellite of the Earth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’s diameter of only  1/4th of the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’s gravity is 1/6th of Earth, so your weight would be 1/6th of your weight on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of w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also has the largest dust storms in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–The Red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 Jupiter (ruler of Roman go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 is the largest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For Better Understanding </a:t>
            </a:r>
            <a:br>
              <a:rPr sz="1200"/>
            </a:b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of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Vide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–The Giant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–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 is the sixth planet from the Sun and the second largest planet in the Solar System, after Jupi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classified as a gas giant 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-The Jewel Plan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–A planet on its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d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–The Last Gia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Fre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ience Video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 –Star of the Solar 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makemegenius.com                             Free Science Videos for K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E8AD-F67A-40FC-B281-3E36EC06C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12D0-1432-42DC-B4EA-7D49D94A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31E-FE4C-4E71-AF34-D8E64440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6ED6-A71C-40AA-9825-85AB6B53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CD584-945B-4E2D-8CCC-0C0B16769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8E1A-BB0E-4010-8A94-3EB0A41D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AE96-3A1F-4BF5-9330-B73F54186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0C21-0BFF-4AC9-A648-EF1227BF6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2019-2EA8-484D-8992-9FA012A2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8526-CB5B-4CC8-A85A-BAFB47FA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9EE2B-9E5F-4156-9325-DE5CDB15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710-388C-48F8-BBC3-0839F0ED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E859-0781-4C4B-B741-6026C0E4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F4DE9-377E-4533-94DC-DCB62A89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0FBE1-C4E7-449E-A0CB-AA354FF4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F701-345B-4D1F-9D67-004EAE87E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D4C2F-F158-4932-983A-D63940DA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391E-717F-4775-97CC-29401099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6295-CEC2-491D-96BF-36BE2F59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FF1F-9400-46DC-9C84-6137315D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CD8-2484-418C-8C38-94AC9BEBE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046B-5151-444D-966F-9052CD035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1271-EC86-42B4-8476-D59B24E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1BE-C34F-4CD8-828C-3B4883780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D5A7-F35E-4FE2-9BA3-4F6533669317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85F4-BB52-49FE-A74B-DC6C3B75325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D6C0C-8CE5-421A-854B-7C4482AF8E9D}" type="datetime">
              <a:rPr b="0" lang="en-IN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04BE6-6D0E-4A93-99CF-5F37B8AA2E2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115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1500"/>
            </a:br>
            <a:r>
              <a:rPr b="1" i="1" lang="en-US" sz="115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11500"/>
            </a:b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  word comes from Greek ,which means wandering star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lanets are heavenly bodies ,which revolve around the Sun in  elliptical orbi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arlier it was considered there were 9 planets in Solar system but lately  one planet  called Pluto was de-classified from being a planet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ll planets fall in 2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ner Planets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: Mercury , Venus, Mars and Earth are called inner planet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Outer Planets: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ese are Jupiter , Saturn, Uranus, Neptun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Object 4" descr=""/>
          <p:cNvPicPr/>
          <p:nvPr/>
        </p:nvPicPr>
        <p:blipFill>
          <a:blip r:embed="rId1"/>
          <a:stretch/>
        </p:blipFill>
        <p:spPr>
          <a:xfrm>
            <a:off x="7524720" y="60213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tween Inner &amp; Outer Planets ,there is a ring of small bodies , which are made of rock &amp; metal, these are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They also keep moving around the Sun .This ring is also called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steroids Bel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s://encrypted-tbn2.google.com/images?q=tbn:ANd9GcQItvSu7227CuvqlftuUPgoXVXZmgOwx_EPiWE4OzBQMuWzEH4ZXQ"/>
          <p:cNvPicPr/>
          <p:nvPr/>
        </p:nvPicPr>
        <p:blipFill>
          <a:blip r:embed="rId1"/>
          <a:stretch/>
        </p:blipFill>
        <p:spPr>
          <a:xfrm>
            <a:off x="-108000" y="-12600"/>
            <a:ext cx="9252000" cy="3384360"/>
          </a:xfrm>
          <a:prstGeom prst="rect">
            <a:avLst/>
          </a:prstGeom>
          <a:ln w="0">
            <a:noFill/>
          </a:ln>
        </p:spPr>
      </p:pic>
      <p:sp>
        <p:nvSpPr>
          <p:cNvPr id="122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rcury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messenger of the Roman go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closest planet to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rge variations in d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400 degree C) &amp; night (-180 degree C) time tempera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2286000" cy="226692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also the smallest, and its orbit is the most not fully circul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does not have any satell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r atmosp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with naked ey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88 Earth da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re are no seasons on its su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Mercury –The Innermost 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Ve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surrounded by thick cloud cover ,that is why it is called “Veiled Planet”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 is brightest &amp; hottest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named after Roman goddess of love &amp; beauty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765000" y="2060640"/>
            <a:ext cx="2819520" cy="3024000"/>
          </a:xfrm>
          <a:prstGeom prst="rect">
            <a:avLst/>
          </a:prstGeom>
          <a:ln w="0">
            <a:noFill/>
          </a:ln>
        </p:spPr>
      </p:pic>
      <p:sp>
        <p:nvSpPr>
          <p:cNvPr id="13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 orbits the Sun once in about 225 Earth day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Venus reaches its maximum brightness shortly before sunrise or shortly after sunset, so it is also known as the Morning Star or Evening St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us is also known as “Sister “ or “Twin” planet to earth because of its similar size &amp; mass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Venus –The Veiled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art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356000" y="1600200"/>
            <a:ext cx="4330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known as watery planet, because 70% of its surface is covered by wate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flects about 1/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sunlight it receives .The earth’s atmosphere scatters the light &amp; creates a blue effectn,so it is also called Blue Planet.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nly planet having life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2" descr="A planetary disk of white cloud formations, brown and green land masses, and dark blue oceans against a black background. The Arabian peninsula, Africa and Madagascar lie in the upper half of the disk, while Antarctica is at the bottom."/>
          <p:cNvPicPr/>
          <p:nvPr/>
        </p:nvPicPr>
        <p:blipFill>
          <a:blip r:embed="rId1"/>
          <a:stretch/>
        </p:blipFill>
        <p:spPr>
          <a:xfrm>
            <a:off x="468360" y="2060640"/>
            <a:ext cx="2930400" cy="2932200"/>
          </a:xfrm>
          <a:prstGeom prst="rect">
            <a:avLst/>
          </a:prstGeom>
          <a:ln w="0">
            <a:noFill/>
          </a:ln>
        </p:spPr>
      </p:pic>
      <p:sp>
        <p:nvSpPr>
          <p:cNvPr id="14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C:\Users\Sumitomo\Desktop\MMG\Teaching Kids.png"/>
          <p:cNvPicPr/>
          <p:nvPr/>
        </p:nvPicPr>
        <p:blipFill>
          <a:blip r:embed="rId1"/>
          <a:stretch/>
        </p:blipFill>
        <p:spPr>
          <a:xfrm>
            <a:off x="0" y="2114640"/>
            <a:ext cx="9144000" cy="484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2556000" y="39204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Vis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www.makemegenius.c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 orbits the Sun once in about 365 Earth day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otates about its own axis, thus creating day &amp; night. It takes 24 hours to do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revolves around sun, due to its tilt ,seasons are create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e to gravity, the layer of gases remain attached to it (which is known as atmosphere), it prevents too much heat or UV rays from Sun reaching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on is the only satellite of the Ear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Earth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Blue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on</a:t>
            </a:r>
            <a:br>
              <a:rPr sz="4000"/>
            </a:br>
            <a:r>
              <a:rPr b="1" lang="en-US" sz="3600" spc="-1" strike="noStrike">
                <a:solidFill>
                  <a:srgbClr val="7030a0"/>
                </a:solidFill>
                <a:latin typeface="Calibri"/>
              </a:rPr>
              <a:t>Not a Planet but the only satellite of the Ear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’s diameter of only  1/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the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looks bigger to us as it is very close to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on has no atmosphere ,so there is huge difference between day &amp; night temperature. (127 degree C in Day to -173 degree C in Nigh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155520" y="2060640"/>
            <a:ext cx="3845160" cy="2881080"/>
          </a:xfrm>
          <a:prstGeom prst="rect">
            <a:avLst/>
          </a:prstGeom>
          <a:ln w="0">
            <a:noFill/>
          </a:ln>
        </p:spPr>
      </p:pic>
      <p:sp>
        <p:nvSpPr>
          <p:cNvPr id="1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there is no atmosphere, there is no weather, no rain, no wind or clou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ke everything else in Solar System, Moon also does not have its own light . It shines due to Sun’s light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is no water on its surfa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on’s gravity is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Earth, so your weight would be 1/6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your weight on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3780000" y="1600200"/>
            <a:ext cx="490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The Moon is the only celestial body other than Earth on which humans have set foot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Neil Armstrong became the first person to walk on the Moon as the commander of the American mission Apollo 11by first setting foot on the Moon  on 21 July 1969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on –The Earth’s Only Satellit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2887560" cy="3097080"/>
          </a:xfrm>
          <a:prstGeom prst="rect">
            <a:avLst/>
          </a:prstGeom>
          <a:ln w="0">
            <a:noFill/>
          </a:ln>
        </p:spPr>
      </p:pic>
      <p:sp>
        <p:nvSpPr>
          <p:cNvPr id="16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of w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often described as the "Red Planet", as the iron oxide prevalent on its surface gives it a reddish appear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The planet Mars"/>
          <p:cNvPicPr/>
          <p:nvPr/>
        </p:nvPicPr>
        <p:blipFill>
          <a:blip r:embed="rId1"/>
          <a:stretch/>
        </p:blipFill>
        <p:spPr>
          <a:xfrm>
            <a:off x="684360" y="2133720"/>
            <a:ext cx="2739960" cy="2739960"/>
          </a:xfrm>
          <a:prstGeom prst="rect">
            <a:avLst/>
          </a:prstGeom>
          <a:ln w="0">
            <a:noFill/>
          </a:ln>
        </p:spPr>
      </p:pic>
      <p:sp>
        <p:nvSpPr>
          <p:cNvPr id="16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has approximately half the diameter of Ear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 has two satellit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gravity of Mars is half of the earth 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The atmosphere of Mars consists of about 95% carbon dioxide, 3% nitrogen,1.6% argon 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and contains some  oxygen and wa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Mars also has the largest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dust storms in the Solar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Mars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Red 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Jupit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356000" y="1600200"/>
            <a:ext cx="46087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amed after the Roman god Jupiter (ruler of Roman go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is the largest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planet within the 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 great Red Spot ,it is rotating storm system inside the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2" descr="Jupiter by Cassini-Huygens.jpg"/>
          <p:cNvPicPr/>
          <p:nvPr/>
        </p:nvPicPr>
        <p:blipFill>
          <a:blip r:embed="rId1"/>
          <a:stretch/>
        </p:blipFill>
        <p:spPr>
          <a:xfrm>
            <a:off x="755640" y="1916280"/>
            <a:ext cx="2849400" cy="275112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Calibri"/>
              </a:rPr>
              <a:t>Better Understanding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                 of </a:t>
            </a:r>
            <a:r>
              <a:rPr b="0" lang="en-US" sz="4000" spc="-1" strike="noStrike">
                <a:solidFill>
                  <a:srgbClr val="00b0f0"/>
                </a:solidFill>
                <a:latin typeface="Calibri"/>
              </a:rPr>
              <a:t>Solar Syste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-360" y="2332080"/>
            <a:ext cx="911556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eck ou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on Solar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upiter rotates faster than any other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ompletes one rotation in 10 ho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Jupiter has a faint ring system, these rings appear to b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is also a windy planet as the fast rotation causes high wi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16 plane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piter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 –The </a:t>
            </a:r>
            <a:r>
              <a:rPr b="1" lang="en-US" sz="7200" spc="-1" strike="noStrike">
                <a:solidFill>
                  <a:srgbClr val="000000"/>
                </a:solidFill>
                <a:latin typeface="Calibri"/>
              </a:rPr>
              <a:t>Giant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Calibri"/>
              </a:rPr>
              <a:t>Planet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atur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 –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000" spc="-1" strike="noStrike">
                <a:solidFill>
                  <a:srgbClr val="000000"/>
                </a:solidFill>
                <a:latin typeface="Calibri"/>
              </a:rPr>
              <a:t>Saturn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is the sixth planet from the Sun and the second largest planet in the Solar System, after Jupit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It is named after the Roman god Satur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Saturn is classified as a </a:t>
            </a:r>
            <a:r>
              <a:rPr b="0" lang="en-IN" sz="3000" spc="-1" strike="noStrike" u="sng">
                <a:solidFill>
                  <a:srgbClr val="000000"/>
                </a:solidFill>
                <a:uFillTx/>
                <a:latin typeface="Calibri"/>
              </a:rPr>
              <a:t>gas giant</a:t>
            </a:r>
            <a:r>
              <a:rPr b="0" lang="en-IN" sz="3000" spc="-1" strike="noStrike">
                <a:solidFill>
                  <a:srgbClr val="000000"/>
                </a:solidFill>
                <a:latin typeface="Calibri"/>
              </a:rPr>
              <a:t> pla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544680" y="1916280"/>
            <a:ext cx="3132000" cy="30970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3"/>
          <p:cNvSpPr/>
          <p:nvPr/>
        </p:nvSpPr>
        <p:spPr>
          <a:xfrm>
            <a:off x="903600" y="6381720"/>
            <a:ext cx="73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is the most beautiful planet in solar system because of its spectacular rin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aturn-The Jewel Plane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rings are made up of ice &amp; ice covered parti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2 known satellites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can be seen by naked 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urn is 95 times heavier than eart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takes Saturn 10,759 Earth days (or about 29½ years), to finish one revolution around the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Uranu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Uranus appears to lie on its sid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only planet which  rotates on its axis from east to we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4"/>
          <p:cNvSpPr/>
          <p:nvPr/>
        </p:nvSpPr>
        <p:spPr>
          <a:xfrm rot="1976400">
            <a:off x="7215120" y="60840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2" descr="http://upload.wikimedia.org/wikipedia/commons/thumb/e/e4/Uranusandrings.jpg/220px-Uranusandrings.jpg"/>
          <p:cNvPicPr/>
          <p:nvPr/>
        </p:nvPicPr>
        <p:blipFill>
          <a:blip r:embed="rId1"/>
          <a:stretch/>
        </p:blipFill>
        <p:spPr>
          <a:xfrm>
            <a:off x="324000" y="1773360"/>
            <a:ext cx="3311280" cy="3168360"/>
          </a:xfrm>
          <a:prstGeom prst="rect">
            <a:avLst/>
          </a:prstGeom>
          <a:ln w="0">
            <a:noFill/>
          </a:ln>
        </p:spPr>
      </p:pic>
      <p:sp>
        <p:nvSpPr>
          <p:cNvPr id="1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at least ten thin uniform black rings ,which are made of dus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27 known satelli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very cold planet ,it receives 370 times less sunlight than Earth as it is far away from sun as compared to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core is very rock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Uranus –A planet on its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"/>
          <p:cNvSpPr/>
          <p:nvPr/>
        </p:nvSpPr>
        <p:spPr>
          <a:xfrm rot="1976400">
            <a:off x="7394040" y="844560"/>
            <a:ext cx="9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Sid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ptune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ost distant gas plan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t is named after the Roman god of the sea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windy pla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2" descr="Neptune from Voyager 2"/>
          <p:cNvPicPr/>
          <p:nvPr/>
        </p:nvPicPr>
        <p:blipFill>
          <a:blip r:embed="rId1"/>
          <a:stretch/>
        </p:blipFill>
        <p:spPr>
          <a:xfrm>
            <a:off x="826920" y="2060640"/>
            <a:ext cx="2799000" cy="2752560"/>
          </a:xfrm>
          <a:prstGeom prst="rect">
            <a:avLst/>
          </a:prstGeom>
          <a:ln w="0">
            <a:noFill/>
          </a:ln>
        </p:spPr>
      </p:pic>
      <p:sp>
        <p:nvSpPr>
          <p:cNvPr id="208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’t be seen with naked ey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8 known satell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s it is very far from Sun,it completes an orbit on average every 164.79 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e average distance between Neptune and the Sun is 4.50 billion k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Neptune was the first planet found by mathematical predi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Neptune –The Last Giant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un, its planets and all the objects moving around them collectively are called Solar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olar System is entirely dependent on Sun &amp; the only one which is self- luminous  i.e which has its own ligh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t of the planets reflect the light received from S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ed b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ubh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VIII th , Govt Public School ,Gurga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anks 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oog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4360" y="2708280"/>
            <a:ext cx="77724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1" lang="en-US" sz="9600" spc="-1" strike="noStrike">
                <a:solidFill>
                  <a:srgbClr val="ff0000"/>
                </a:solidFill>
                <a:latin typeface="Calibri"/>
              </a:rPr>
              <a:t>Free</a:t>
            </a: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9600"/>
            </a:br>
            <a:r>
              <a:rPr b="1" i="1" lang="en-US" sz="9600" spc="-1" strike="noStrike">
                <a:solidFill>
                  <a:srgbClr val="0070c0"/>
                </a:solidFill>
                <a:latin typeface="Calibri"/>
              </a:rPr>
              <a:t>Science Videos</a:t>
            </a:r>
            <a:br>
              <a:rPr sz="9600"/>
            </a:b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for Ki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4569840" y="5516640"/>
            <a:ext cx="26618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www.makemegeniu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0440" y="78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olar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460440" y="1268280"/>
            <a:ext cx="8215200" cy="5326200"/>
          </a:xfrm>
          <a:prstGeom prst="rect">
            <a:avLst/>
          </a:prstGeom>
          <a:ln w="0">
            <a:noFill/>
          </a:ln>
        </p:spPr>
      </p:pic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u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3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‘s the heaviest among solar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ball of hot ,burning gas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nearest star to the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ight from the Sun takes appx. 8 minutes to reach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The Sun by the Atmospheric Imaging Assembly of NASA's Solar Dynamics Observatory - 20100819.jpg"/>
          <p:cNvPicPr/>
          <p:nvPr/>
        </p:nvPicPr>
        <p:blipFill>
          <a:blip r:embed="rId1"/>
          <a:stretch/>
        </p:blipFill>
        <p:spPr>
          <a:xfrm>
            <a:off x="539640" y="2133720"/>
            <a:ext cx="2762280" cy="2638440"/>
          </a:xfrm>
          <a:prstGeom prst="rect">
            <a:avLst/>
          </a:prstGeom>
          <a:ln w="0">
            <a:noFill/>
          </a:ln>
        </p:spPr>
      </p:pic>
      <p:sp>
        <p:nvSpPr>
          <p:cNvPr id="109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source of all energy for life on Eart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bout three quarters of the Sun's mass consists of hydrogen, while the rest is mostly hel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 the Sun’s surface ,there are dark patches known as sunspots. These are patches of gas that looks dark since they are cooler than their surrounding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Sun  –Star of the Solar System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6:04Z</dcterms:created>
  <dc:creator>Sumitomo</dc:creator>
  <dc:description/>
  <dc:language>en-US</dc:language>
  <cp:lastModifiedBy>Legion</cp:lastModifiedBy>
  <dcterms:modified xsi:type="dcterms:W3CDTF">2017-01-26T10:17:38Z</dcterms:modified>
  <cp:revision>26</cp:revision>
  <dc:subject/>
  <dc:title>Saturn</dc:title>
</cp:coreProperties>
</file>